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F2A0-302A-458E-987A-63F768F1D4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F584-CDA1-4DB0-A87F-72A9DEF29F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8BF5-1FE6-4441-8A29-F73574C448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3825-78DB-4D73-B082-7B701A02C0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F6D6-849C-4DB0-AE49-F247ECBB9A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D7E5-DCAF-4FE6-9496-01958BED33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65DB-D36E-46E0-B600-54DCDB4B278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6561-D1EA-43FF-943B-E9DC1FF1CB8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9631-B48A-4966-A022-DE277616C4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B47F-84CD-4D85-8F91-12CAD6FD694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B196-CF10-4B18-A775-CCDC2F24AA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8A62-8F71-45C8-95CA-F72C4489B4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F041-DA07-4473-B1A6-A186937F64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29CB-5529-44E4-9106-1DA814B840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837F-F637-4AF0-990C-DC85FA99C3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973A-C7C8-4747-9E63-D869CB2B0A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C1E7-D415-4873-AFFD-D2ADD3A085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0094-8F6D-4015-A7A7-021659628E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074D-09DD-4F90-9ED6-7594F36BC6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4438-2F66-4F82-BE4C-5CB12EEE21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B5D0-C307-4241-80FB-6538E33923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0D57-86DB-4596-95C4-E97C086881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64BE-1DAA-42F8-B875-8B7A39F1F3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937D-C9DC-4CCF-8C60-7F797F0C0C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83CF-9868-4D65-BA6B-788A62CD1C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CF17-289A-4A51-A10B-8F3CDF8E19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2C02-9E45-462A-A948-9CC9AECCA5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404B-B14D-4DEB-85F8-63F0B203DD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D77E-2518-4483-8827-DB602019AF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47D0-C019-49C9-A2D9-AC682D12E4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65B4-1BFD-4BF8-834E-37AC0A456B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CF30-19C7-4756-A476-1B0576E82B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801C-0893-428F-855A-5E3BD147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424-5E43-406B-92CF-52FA84AD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6BA-6C07-431D-BCA9-5794C83C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F6F-E0E8-4A86-86EB-DE1B3BA8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8DE0-CFA3-4E87-A6F4-CE0B24E7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2C41-990E-40A6-94FE-EB93D7EA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03B2-E8E0-4896-9332-E4CF2D9F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1A1-1014-4795-9C56-F79813BC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2EC-A7C0-43BB-95C3-85EFDC6C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F836-8F49-47B1-AEA8-3E183F65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B620-37C3-4E1D-BA02-4B6DAEA1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6C5-DBE3-4DD8-869B-5BB376A9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4A0C-23FA-49A6-84FA-707E1C1CB2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1224000" y="2279520"/>
            <a:ext cx="7005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f0"/>
                </a:solidFill>
                <a:latin typeface="Calibri"/>
                <a:ea typeface="Times New Roman"/>
              </a:rPr>
              <a:t>Avez-vous 2 heures à consacrer à la réflexion sur l’avenir de votre entreprise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727440" y="351000"/>
            <a:ext cx="232236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1"/>
          <p:cNvSpPr/>
          <p:nvPr/>
        </p:nvSpPr>
        <p:spPr>
          <a:xfrm>
            <a:off x="2017800" y="171468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3 Analyser les produits, les services, les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90640" y="3009960"/>
          <a:ext cx="7916760" cy="1881000"/>
        </p:xfrm>
        <a:graphic>
          <a:graphicData uri="http://schemas.openxmlformats.org/drawingml/2006/table">
            <a:tbl>
              <a:tblPr/>
              <a:tblGrid>
                <a:gridCol w="2638440"/>
                <a:gridCol w="2639880"/>
                <a:gridCol w="263844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i sont nos client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s sont nos produit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s sont nos service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884160" y="5162400"/>
          <a:ext cx="7929720" cy="1100160"/>
        </p:xfrm>
        <a:graphic>
          <a:graphicData uri="http://schemas.openxmlformats.org/drawingml/2006/table">
            <a:tbl>
              <a:tblPr/>
              <a:tblGrid>
                <a:gridCol w="3963960"/>
                <a:gridCol w="3965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 est le métier de l’entreprise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le est la réelle valeur ajoutée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pic>
        <p:nvPicPr>
          <p:cNvPr id="99" name="Groupe 6" descr=""/>
          <p:cNvPicPr/>
          <p:nvPr/>
        </p:nvPicPr>
        <p:blipFill>
          <a:blip r:embed="rId1"/>
          <a:stretch/>
        </p:blipFill>
        <p:spPr>
          <a:xfrm>
            <a:off x="2335320" y="493560"/>
            <a:ext cx="51260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0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e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28760" y="1357200"/>
          <a:ext cx="8286480" cy="5241960"/>
        </p:xfrm>
        <a:graphic>
          <a:graphicData uri="http://schemas.openxmlformats.org/drawingml/2006/table">
            <a:tbl>
              <a:tblPr/>
              <a:tblGrid>
                <a:gridCol w="6226200"/>
                <a:gridCol w="1076040"/>
                <a:gridCol w="9842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potentiel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ont-ils été clas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e prospection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e vent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incipaux concurrents sont-ils connus et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 concurrents ont-ils été clas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entreprise a-t-elle été classée par rapport à ses concurren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cessus d’innovation a-t-il été identifi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’innovation des concurrent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1"/>
          <p:cNvSpPr/>
          <p:nvPr/>
        </p:nvSpPr>
        <p:spPr>
          <a:xfrm>
            <a:off x="2017800" y="178596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4 Analyser les modes de commerc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Groupe 4" descr=""/>
          <p:cNvPicPr/>
          <p:nvPr/>
        </p:nvPicPr>
        <p:blipFill>
          <a:blip r:embed="rId1"/>
          <a:stretch/>
        </p:blipFill>
        <p:spPr>
          <a:xfrm>
            <a:off x="2279520" y="493560"/>
            <a:ext cx="5187960" cy="78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1098720" y="3067200"/>
          <a:ext cx="7500600" cy="1854000"/>
        </p:xfrm>
        <a:graphic>
          <a:graphicData uri="http://schemas.openxmlformats.org/drawingml/2006/table">
            <a:tbl>
              <a:tblPr/>
              <a:tblGrid>
                <a:gridCol w="2500200"/>
                <a:gridCol w="2500200"/>
                <a:gridCol w="2500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urniss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cur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s f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s fai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811080" y="5162400"/>
          <a:ext cx="8074080" cy="1100160"/>
        </p:xfrm>
        <a:graphic>
          <a:graphicData uri="http://schemas.openxmlformats.org/drawingml/2006/table">
            <a:tbl>
              <a:tblPr/>
              <a:tblGrid>
                <a:gridCol w="4037040"/>
                <a:gridCol w="4037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 est ce que je vends à mes client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 est ce que je touche les prospect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1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rgan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42960" y="1285920"/>
          <a:ext cx="8215200" cy="5241960"/>
        </p:xfrm>
        <a:graphic>
          <a:graphicData uri="http://schemas.openxmlformats.org/drawingml/2006/table">
            <a:tbl>
              <a:tblPr/>
              <a:tblGrid>
                <a:gridCol w="6172200"/>
                <a:gridCol w="1066680"/>
                <a:gridCol w="97632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organigramme hiérarchique a-t-il été dessin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organigramme fonctionnel a-t-il été dessin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rganigrammes fonctionnels et hiérarchiques ont-ils été superpo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grands processu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liste des moyens dont dispose l’entreprise a-t-elle été réalis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mangement de la Direction générale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management des principaux cadre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sociogrammes des différents services et direction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éléments de motivation des différents collaborateurs et cadre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évaluation de la cohérence entre les objectifs et l’organisation de l’entreprise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1"/>
          <p:cNvSpPr/>
          <p:nvPr/>
        </p:nvSpPr>
        <p:spPr>
          <a:xfrm>
            <a:off x="2035080" y="192888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5 Analyser l’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Groupe 4" descr=""/>
          <p:cNvPicPr/>
          <p:nvPr/>
        </p:nvPicPr>
        <p:blipFill>
          <a:blip r:embed="rId1"/>
          <a:stretch/>
        </p:blipFill>
        <p:spPr>
          <a:xfrm>
            <a:off x="2352600" y="706320"/>
            <a:ext cx="512784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847800" y="3027240"/>
          <a:ext cx="8037360" cy="3048120"/>
        </p:xfrm>
        <a:graphic>
          <a:graphicData uri="http://schemas.openxmlformats.org/drawingml/2006/table">
            <a:tbl>
              <a:tblPr/>
              <a:tblGrid>
                <a:gridCol w="1714320"/>
                <a:gridCol w="1581120"/>
                <a:gridCol w="1581120"/>
                <a:gridCol w="1579680"/>
                <a:gridCol w="1581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ément analys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s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ibl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yenn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fait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GRA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IV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34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in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28760" y="128592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400"/>
                <a:gridCol w="1085760"/>
                <a:gridCol w="9939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harge par personne et par activité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harge entre les différents services et directions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couts hommes ont-ils été détermin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alorisation des taches avec le cout homme a-t-elle été effect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humain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matériell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financièr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projets à mener dans le projet d’entreprise et les ressources disponibles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rbitrages sur les projets à mener ont-ils été fa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retours sur investissement des projets à mener a-t-il été évalu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1"/>
          <p:cNvSpPr/>
          <p:nvPr/>
        </p:nvSpPr>
        <p:spPr>
          <a:xfrm>
            <a:off x="1862280" y="178596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6 Analyser les fin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Groupe 4" descr=""/>
          <p:cNvPicPr/>
          <p:nvPr/>
        </p:nvPicPr>
        <p:blipFill>
          <a:blip r:embed="rId1"/>
          <a:stretch/>
        </p:blipFill>
        <p:spPr>
          <a:xfrm>
            <a:off x="2182680" y="633240"/>
            <a:ext cx="511992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1101600" y="2967120"/>
          <a:ext cx="7183440" cy="1752480"/>
        </p:xfrm>
        <a:graphic>
          <a:graphicData uri="http://schemas.openxmlformats.org/drawingml/2006/table">
            <a:tbl>
              <a:tblPr/>
              <a:tblGrid>
                <a:gridCol w="2664000"/>
                <a:gridCol w="1490760"/>
                <a:gridCol w="1450800"/>
                <a:gridCol w="157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iè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uma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 matéri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onibles actuel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obiliser en 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t 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893880" y="5162400"/>
          <a:ext cx="7597800" cy="1100160"/>
        </p:xfrm>
        <a:graphic>
          <a:graphicData uri="http://schemas.openxmlformats.org/drawingml/2006/table">
            <a:tbl>
              <a:tblPr/>
              <a:tblGrid>
                <a:gridCol w="7597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 est le retour sur investissement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5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5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iagnos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28760" y="135720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400"/>
                <a:gridCol w="1085760"/>
                <a:gridCol w="9939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tes les analyses ont-elles été menées complètemen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oints forts de chaque élément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oints faibles de chaque élément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éléments ont-ils été mis en perspective les uns par rapport aux aut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incipales « maladies » de l’entreprise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face de chaque maladie, les axes de progression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xes de progression sont-ils cohérents avec la vision stratégiqu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a-t-elle été validée ou reformul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généraux ont-ils été validés ou réévalu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apacité de l’entreprise à mener son projet d’entreprise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1"/>
          <p:cNvSpPr/>
          <p:nvPr/>
        </p:nvSpPr>
        <p:spPr>
          <a:xfrm>
            <a:off x="2033640" y="174780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7 Faire le dia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oupe 5" descr=""/>
          <p:cNvPicPr/>
          <p:nvPr/>
        </p:nvPicPr>
        <p:blipFill>
          <a:blip r:embed="rId1"/>
          <a:stretch/>
        </p:blipFill>
        <p:spPr>
          <a:xfrm>
            <a:off x="2352600" y="407880"/>
            <a:ext cx="512136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1071720" y="2786040"/>
          <a:ext cx="7581600" cy="1854360"/>
        </p:xfrm>
        <a:graphic>
          <a:graphicData uri="http://schemas.openxmlformats.org/drawingml/2006/table">
            <a:tbl>
              <a:tblPr/>
              <a:tblGrid>
                <a:gridCol w="1704960"/>
                <a:gridCol w="1469880"/>
                <a:gridCol w="1468440"/>
                <a:gridCol w="1469880"/>
                <a:gridCol w="1468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è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ibl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n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portun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0160" y="5162400"/>
          <a:ext cx="8066160" cy="1160640"/>
        </p:xfrm>
        <a:graphic>
          <a:graphicData uri="http://schemas.openxmlformats.org/drawingml/2006/table">
            <a:tbl>
              <a:tblPr/>
              <a:tblGrid>
                <a:gridCol w="8066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les sont « les maladies » de l’entreprise qui empêcheraient d’atteindre les objectif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6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57120" y="1357200"/>
          <a:ext cx="8572680" cy="5241960"/>
        </p:xfrm>
        <a:graphic>
          <a:graphicData uri="http://schemas.openxmlformats.org/drawingml/2006/table">
            <a:tbl>
              <a:tblPr/>
              <a:tblGrid>
                <a:gridCol w="6440400"/>
                <a:gridCol w="1113120"/>
                <a:gridCol w="10191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est-elle clair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est-elle cohérente avec les capacités de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a-t-elle été suffisamment déclinée en objectifs mesurabl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liste des projets à mener a-t-elle été finalis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évolutions organisationnelles nécessaires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lans marketing et commercial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lan financier a-t-il été construi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document « projet d’entreprise » a-t-il été rédig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est-il clair et compréhensible par tou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a-t-il été validé par les actionnaires puis communiqué aux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1"/>
          <p:cNvSpPr/>
          <p:nvPr/>
        </p:nvSpPr>
        <p:spPr>
          <a:xfrm>
            <a:off x="2019240" y="174780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8 Rédiger et communiquer le projet d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oupe 4" descr=""/>
          <p:cNvPicPr/>
          <p:nvPr/>
        </p:nvPicPr>
        <p:blipFill>
          <a:blip r:embed="rId1"/>
          <a:stretch/>
        </p:blipFill>
        <p:spPr>
          <a:xfrm>
            <a:off x="2341440" y="407880"/>
            <a:ext cx="511992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1801800" y="4125960"/>
          <a:ext cx="6095880" cy="22255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812880" y="2786040"/>
          <a:ext cx="8074080" cy="1100160"/>
        </p:xfrm>
        <a:graphic>
          <a:graphicData uri="http://schemas.openxmlformats.org/drawingml/2006/table">
            <a:tbl>
              <a:tblPr/>
              <a:tblGrid>
                <a:gridCol w="4037040"/>
                <a:gridCol w="4037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 nouvelle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s objectifs généraux associés à cette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Diagramme 9" descr=""/>
          <p:cNvPicPr/>
          <p:nvPr/>
        </p:nvPicPr>
        <p:blipFill>
          <a:blip r:embed="rId1"/>
          <a:stretch/>
        </p:blipFill>
        <p:spPr>
          <a:xfrm>
            <a:off x="1420920" y="841320"/>
            <a:ext cx="6869160" cy="4316400"/>
          </a:xfrm>
          <a:prstGeom prst="rect">
            <a:avLst/>
          </a:prstGeom>
          <a:ln w="0">
            <a:noFill/>
          </a:ln>
        </p:spPr>
      </p:pic>
      <p:sp>
        <p:nvSpPr>
          <p:cNvPr id="185" name="Connecteur droit 10"/>
          <p:cNvSpPr/>
          <p:nvPr/>
        </p:nvSpPr>
        <p:spPr>
          <a:xfrm flipV="1">
            <a:off x="1660680" y="4803480"/>
            <a:ext cx="1046160" cy="839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necteur droit 11"/>
          <p:cNvSpPr/>
          <p:nvPr/>
        </p:nvSpPr>
        <p:spPr>
          <a:xfrm flipV="1">
            <a:off x="5962680" y="1564920"/>
            <a:ext cx="1046160" cy="83988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llipse 12"/>
          <p:cNvSpPr/>
          <p:nvPr/>
        </p:nvSpPr>
        <p:spPr>
          <a:xfrm>
            <a:off x="3753000" y="3548160"/>
            <a:ext cx="696600" cy="720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llipse 13"/>
          <p:cNvSpPr/>
          <p:nvPr/>
        </p:nvSpPr>
        <p:spPr>
          <a:xfrm>
            <a:off x="4389480" y="2139840"/>
            <a:ext cx="696960" cy="720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llipse 14"/>
          <p:cNvSpPr/>
          <p:nvPr/>
        </p:nvSpPr>
        <p:spPr>
          <a:xfrm>
            <a:off x="5324400" y="3525840"/>
            <a:ext cx="696960" cy="719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ilo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57120" y="1214280"/>
          <a:ext cx="8501040" cy="5241960"/>
        </p:xfrm>
        <a:graphic>
          <a:graphicData uri="http://schemas.openxmlformats.org/drawingml/2006/table">
            <a:tbl>
              <a:tblPr/>
              <a:tblGrid>
                <a:gridCol w="6386760"/>
                <a:gridCol w="1104840"/>
                <a:gridCol w="10094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ableaux de bord mensuel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ableaux de bord trimestriel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reporting des tableaux de bord sont-ils connus de tou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anagers connaissent-t-ils les modes de consolidation des tableaux de bord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mensuelles sont 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semestri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annu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temps nécessaire pour les bilans intermédiaires ont-ils été réserv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collaborateurs sont-ils conscients de l’importance du suivi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Direction générale est-elle prête à consacrer le temps nécessaire au pilotag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1"/>
          <p:cNvSpPr/>
          <p:nvPr/>
        </p:nvSpPr>
        <p:spPr>
          <a:xfrm>
            <a:off x="2103480" y="174780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9 Piloter le projet d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oupe 4" descr=""/>
          <p:cNvPicPr/>
          <p:nvPr/>
        </p:nvPicPr>
        <p:blipFill>
          <a:blip r:embed="rId1"/>
          <a:stretch/>
        </p:blipFill>
        <p:spPr>
          <a:xfrm>
            <a:off x="2236680" y="633240"/>
            <a:ext cx="546264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947880" y="2676600"/>
          <a:ext cx="7972200" cy="3954240"/>
        </p:xfrm>
        <a:graphic>
          <a:graphicData uri="http://schemas.openxmlformats.org/drawingml/2006/table">
            <a:tbl>
              <a:tblPr/>
              <a:tblGrid>
                <a:gridCol w="1992240"/>
                <a:gridCol w="1993680"/>
                <a:gridCol w="1992600"/>
                <a:gridCol w="199368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atte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non atte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s correct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Diagramme 3" descr=""/>
          <p:cNvPicPr/>
          <p:nvPr/>
        </p:nvPicPr>
        <p:blipFill>
          <a:blip r:embed="rId1"/>
          <a:stretch/>
        </p:blipFill>
        <p:spPr>
          <a:xfrm>
            <a:off x="2139840" y="1994040"/>
            <a:ext cx="4651560" cy="2779560"/>
          </a:xfrm>
          <a:prstGeom prst="rect">
            <a:avLst/>
          </a:prstGeom>
          <a:ln w="0">
            <a:noFill/>
          </a:ln>
        </p:spPr>
      </p:pic>
      <p:sp>
        <p:nvSpPr>
          <p:cNvPr id="196" name="Connecteur droit 4"/>
          <p:cNvSpPr/>
          <p:nvPr/>
        </p:nvSpPr>
        <p:spPr>
          <a:xfrm flipV="1">
            <a:off x="2266920" y="4303800"/>
            <a:ext cx="946080" cy="7682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onnecteur droit 5"/>
          <p:cNvSpPr/>
          <p:nvPr/>
        </p:nvSpPr>
        <p:spPr>
          <a:xfrm flipV="1">
            <a:off x="5735520" y="1999800"/>
            <a:ext cx="630360" cy="43812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e 9"/>
          <p:cNvGrpSpPr/>
          <p:nvPr/>
        </p:nvGrpSpPr>
        <p:grpSpPr>
          <a:xfrm>
            <a:off x="4494240" y="2914560"/>
            <a:ext cx="812880" cy="498600"/>
            <a:chOff x="4494240" y="2914560"/>
            <a:chExt cx="812880" cy="498600"/>
          </a:xfrm>
        </p:grpSpPr>
        <p:sp>
          <p:nvSpPr>
            <p:cNvPr id="199" name="Ellipse 7"/>
            <p:cNvSpPr/>
            <p:nvPr/>
          </p:nvSpPr>
          <p:spPr>
            <a:xfrm>
              <a:off x="4527360" y="2914560"/>
              <a:ext cx="538200" cy="498600"/>
            </a:xfrm>
            <a:prstGeom prst="ellipse">
              <a:avLst/>
            </a:pr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ZoneTexte 8"/>
            <p:cNvSpPr/>
            <p:nvPr/>
          </p:nvSpPr>
          <p:spPr>
            <a:xfrm>
              <a:off x="4494240" y="2923200"/>
              <a:ext cx="81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85880" y="1214280"/>
          <a:ext cx="7643880" cy="5241960"/>
        </p:xfrm>
        <a:graphic>
          <a:graphicData uri="http://schemas.openxmlformats.org/drawingml/2006/table">
            <a:tbl>
              <a:tblPr/>
              <a:tblGrid>
                <a:gridCol w="5742000"/>
                <a:gridCol w="993600"/>
                <a:gridCol w="90828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fait l’analyse des résultats obtenus sur les 3 dernières ann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mis en perspective ces résultats avec vos ambitions pour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mis en perspective ces résultats avec vos ambitions personnell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quelles sont les valeurs que vous souhaitez véhiculer dans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naissez-vous les objectifs personnels des différents actionnai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rédigé une première vision de l’entreprise à horizon 3 an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’apporterait cette vision à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’apporterait cette vision aux actionnai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e rapporterait cette vision aux collaborat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e vous apporterait cette vision à vous à titre personnel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i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28760" y="1285920"/>
          <a:ext cx="8477280" cy="5241960"/>
        </p:xfrm>
        <a:graphic>
          <a:graphicData uri="http://schemas.openxmlformats.org/drawingml/2006/table">
            <a:tbl>
              <a:tblPr/>
              <a:tblGrid>
                <a:gridCol w="6368760"/>
                <a:gridCol w="1100160"/>
                <a:gridCol w="10083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bilan annuels ont-ils été réali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 historique des principaux évènements a-t-il été construi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réunion de bilan global a-t-elle eu lieu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synthèse du bilan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recherche des causes des dysfonctionnements éventuels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ctions correctives à mener dans le prochain projet d’entreprise ont-elles été listées 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a-t-il été clôturé par un manifestation impliquant tous les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sultats du projet d’entreprise ont-ils et communiqués à tous les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collaborateurs les plus méritants ont-ils été récompen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nouvelle vision a-t-elle été écr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1"/>
          <p:cNvSpPr/>
          <p:nvPr/>
        </p:nvSpPr>
        <p:spPr>
          <a:xfrm>
            <a:off x="2046240" y="174780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10 Faire le bilan et lancer le nouveau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e 8"/>
          <p:cNvGrpSpPr/>
          <p:nvPr/>
        </p:nvGrpSpPr>
        <p:grpSpPr>
          <a:xfrm>
            <a:off x="2085840" y="642960"/>
            <a:ext cx="5379120" cy="772920"/>
            <a:chOff x="2085840" y="642960"/>
            <a:chExt cx="5379120" cy="772920"/>
          </a:xfrm>
        </p:grpSpPr>
        <p:pic>
          <p:nvPicPr>
            <p:cNvPr id="205" name="Picture 3" descr=""/>
            <p:cNvPicPr/>
            <p:nvPr/>
          </p:nvPicPr>
          <p:blipFill>
            <a:blip r:embed="rId1"/>
            <a:stretch/>
          </p:blipFill>
          <p:spPr>
            <a:xfrm>
              <a:off x="2085840" y="642960"/>
              <a:ext cx="9018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ZoneTexte 6"/>
            <p:cNvSpPr/>
            <p:nvPr/>
          </p:nvSpPr>
          <p:spPr>
            <a:xfrm>
              <a:off x="3210480" y="653760"/>
              <a:ext cx="4254480" cy="703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Le tout en 60 minutes tous les a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t tous les 3 ans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1042920" y="2930400"/>
          <a:ext cx="7667640" cy="2865600"/>
        </p:xfrm>
        <a:graphic>
          <a:graphicData uri="http://schemas.openxmlformats.org/drawingml/2006/table">
            <a:tbl>
              <a:tblPr/>
              <a:tblGrid>
                <a:gridCol w="1916280"/>
                <a:gridCol w="1917720"/>
                <a:gridCol w="1915920"/>
                <a:gridCol w="1917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éments analys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i a bien marc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i a mal marc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’il aurait fallu f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1"/>
          <p:cNvSpPr/>
          <p:nvPr/>
        </p:nvSpPr>
        <p:spPr>
          <a:xfrm>
            <a:off x="2062080" y="150012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1 Avoir et rédiger la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84400" y="2428920"/>
          <a:ext cx="7418160" cy="1881000"/>
        </p:xfrm>
        <a:graphic>
          <a:graphicData uri="http://schemas.openxmlformats.org/drawingml/2006/table">
            <a:tbl>
              <a:tblPr/>
              <a:tblGrid>
                <a:gridCol w="2473200"/>
                <a:gridCol w="2471760"/>
                <a:gridCol w="247320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s B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erso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rofessio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6 mo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1 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3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28800" y="4857840"/>
          <a:ext cx="7929360" cy="1100160"/>
        </p:xfrm>
        <a:graphic>
          <a:graphicData uri="http://schemas.openxmlformats.org/drawingml/2006/table">
            <a:tbl>
              <a:tblPr/>
              <a:tblGrid>
                <a:gridCol w="3963960"/>
                <a:gridCol w="3965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hérence entre personnel- professionnel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 vision de l’entreprise à 3 an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pic>
        <p:nvPicPr>
          <p:cNvPr id="66" name="Groupe 9" descr=""/>
          <p:cNvPicPr/>
          <p:nvPr/>
        </p:nvPicPr>
        <p:blipFill>
          <a:blip r:embed="rId1"/>
          <a:stretch/>
        </p:blipFill>
        <p:spPr>
          <a:xfrm>
            <a:off x="2382840" y="353880"/>
            <a:ext cx="51213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6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14240" y="1249200"/>
          <a:ext cx="7929720" cy="5243760"/>
        </p:xfrm>
        <a:graphic>
          <a:graphicData uri="http://schemas.openxmlformats.org/drawingml/2006/table">
            <a:tbl>
              <a:tblPr/>
              <a:tblGrid>
                <a:gridCol w="5956560"/>
                <a:gridCol w="1030320"/>
                <a:gridCol w="9428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généraux sont-ils cohérents avec la vision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ont-ils été déclinés pour chaque Direction fonctionnel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ont-ils été déclinés pour chèque Direction opérationnel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fonctionnels et opérationnels sont-ils cohérents avec les objectif généraux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chiffre d’affaires est-il déterminé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résultat net est-il déterminé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effectifs ont-ils été évalués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effectifs prévus sont-ils cohérents avec les résultats nets escomp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yens à mettre en place ont-ils été évalu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yens à mettre en place ont-ils été valorisés et intégrés dans le résultat ne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1"/>
          <p:cNvSpPr/>
          <p:nvPr/>
        </p:nvSpPr>
        <p:spPr>
          <a:xfrm>
            <a:off x="1843200" y="1643040"/>
            <a:ext cx="565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2 Décliner la vision en objectifs opératio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14400" y="3078000"/>
          <a:ext cx="7516800" cy="2757600"/>
        </p:xfrm>
        <a:graphic>
          <a:graphicData uri="http://schemas.openxmlformats.org/drawingml/2006/table">
            <a:tbl>
              <a:tblPr/>
              <a:tblGrid>
                <a:gridCol w="1498680"/>
                <a:gridCol w="1203120"/>
                <a:gridCol w="1203480"/>
                <a:gridCol w="1204920"/>
                <a:gridCol w="1203120"/>
                <a:gridCol w="120348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élais de réal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iffre d’affai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ésultat 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ffecti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yens à mettre en pl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res objecti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pic>
        <p:nvPicPr>
          <p:cNvPr id="82" name="Groupe 5" descr=""/>
          <p:cNvPicPr/>
          <p:nvPr/>
        </p:nvPicPr>
        <p:blipFill>
          <a:blip r:embed="rId1"/>
          <a:stretch/>
        </p:blipFill>
        <p:spPr>
          <a:xfrm>
            <a:off x="2103480" y="420840"/>
            <a:ext cx="519264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84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ark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00040" y="142884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760"/>
                <a:gridCol w="1085760"/>
                <a:gridCol w="99360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produits commercialisés par l’entrepris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services commercialisés par l’entrepris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duits et services qui apportent la meilleure imag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duits et services qui apportent la meilleure marge nett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métier de l’entreprise a-t-il été identifi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produits et les services et le métier de l’entreprise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ypologies de clients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clients et les produits et les services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’image de l’entreprise et son métier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valeurs de l’entreprise perçues par les clients sont-elles cohérentes avec les valeurs prônées par la Direction Généra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9:57:44Z</dcterms:created>
  <dc:creator>Utilisateur Windows</dc:creator>
  <dc:description/>
  <dc:language>en-US</dc:language>
  <cp:lastModifiedBy>Utilisateur Windows</cp:lastModifiedBy>
  <dcterms:modified xsi:type="dcterms:W3CDTF">2010-03-04T21:18:31Z</dcterms:modified>
  <cp:revision>22</cp:revision>
  <dc:subject/>
  <dc:title>Diapositive 1</dc:title>
</cp:coreProperties>
</file>