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>
              <a:gd name="textAreaLeft" fmla="*/ 0 w 2268720"/>
              <a:gd name="textAreaRight" fmla="*/ 2269080 w 2268720"/>
              <a:gd name="textAreaTop" fmla="*/ 0 h 2709720"/>
              <a:gd name="textAreaBottom" fmla="*/ 2710080 h 2709720"/>
            </a:gdLst>
            <a:ahLst/>
            <a:rect l="textAreaLeft" t="textAreaTop" r="textAreaRight" b="textAreaBottom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>
              <a:gd name="textAreaLeft" fmla="*/ 0 w 2266920"/>
              <a:gd name="textAreaRight" fmla="*/ 2267280 w 2266920"/>
              <a:gd name="textAreaTop" fmla="*/ 0 h 2270160"/>
              <a:gd name="textAreaBottom" fmla="*/ 2270520 h 227016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>
              <a:gd name="textAreaLeft" fmla="*/ 0 w 3670200"/>
              <a:gd name="textAreaRight" fmla="*/ 3670560 w 3670200"/>
              <a:gd name="textAreaTop" fmla="*/ 0 h 3671640"/>
              <a:gd name="textAreaBottom" fmla="*/ 3672000 h 36716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>
              <a:gd name="textAreaLeft" fmla="*/ 0 w 3417840"/>
              <a:gd name="textAreaRight" fmla="*/ 3418200 w 341784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>
              <a:gd name="textAreaLeft" fmla="*/ 0 w 2263680"/>
              <a:gd name="textAreaRight" fmla="*/ 2263680 w 2263680"/>
              <a:gd name="textAreaTop" fmla="*/ 0 h 2264040"/>
              <a:gd name="textAreaBottom" fmla="*/ 2264400 h 22640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>
              <a:gd name="textAreaLeft" fmla="*/ 0 w 2928960"/>
              <a:gd name="textAreaRight" fmla="*/ 2929320 w 2928960"/>
              <a:gd name="textAreaTop" fmla="*/ 0 h 2930400"/>
              <a:gd name="textAreaBottom" fmla="*/ 2930760 h 293040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3997080"/>
              <a:gd name="textAreaBottom" fmla="*/ 3997440 h 399708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Text Box 17"/>
          <p:cNvSpPr/>
          <p:nvPr/>
        </p:nvSpPr>
        <p:spPr>
          <a:xfrm>
            <a:off x="0" y="640080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" name="Text Box 22"/>
          <p:cNvSpPr/>
          <p:nvPr/>
        </p:nvSpPr>
        <p:spPr>
          <a:xfrm>
            <a:off x="0" y="6572160"/>
            <a:ext cx="9144000" cy="1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7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7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7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700" spc="-1" strike="noStrike">
                <a:solidFill>
                  <a:srgbClr val="eaeaea"/>
                </a:solidFill>
                <a:latin typeface="Verdana"/>
                <a:ea typeface="Verdana"/>
              </a:rPr>
              <a:t>www.allience.fr</a:t>
            </a:r>
            <a:r>
              <a:rPr b="0" lang="fr-FR" sz="7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7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700" spc="-1" strike="noStrike">
                <a:solidFill>
                  <a:srgbClr val="eaeaea"/>
                </a:solidFill>
                <a:latin typeface="Verdana"/>
                <a:ea typeface="Verdana"/>
              </a:rPr>
              <a:t>                                                                                           Page </a:t>
            </a:r>
            <a:fld id="{3FC22A78-73E3-4C65-A27D-EBBD40E145E3}" type="slidenum">
              <a:rPr b="0" lang="fr-FR" sz="700" spc="-1" strike="noStrike">
                <a:solidFill>
                  <a:srgbClr val="eaeaea"/>
                </a:solidFill>
                <a:latin typeface="Verdana"/>
                <a:ea typeface="Verdana"/>
              </a:rPr>
              <a:t>&lt;number&gt;</a:t>
            </a:fld>
            <a:endParaRPr b="0" lang="en-US" sz="7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" name="Text Box 23"/>
          <p:cNvSpPr/>
          <p:nvPr/>
        </p:nvSpPr>
        <p:spPr>
          <a:xfrm>
            <a:off x="7632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eaeaea"/>
                </a:solidFill>
                <a:latin typeface="Verdana"/>
                <a:ea typeface="Verdana"/>
              </a:rPr>
              <a:t>Projet X</a:t>
            </a:r>
            <a:r>
              <a:rPr b="0" lang="fr-FR" sz="10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Verdana"/>
                <a:ea typeface="Verdana"/>
              </a:rPr>
              <a:t>Comité de pilotage                                                                   Outil N°8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2" name="Image 13" descr="allience_1.jpg"/>
          <p:cNvPicPr/>
          <p:nvPr/>
        </p:nvPicPr>
        <p:blipFill>
          <a:blip r:embed="rId2"/>
          <a:stretch/>
        </p:blipFill>
        <p:spPr>
          <a:xfrm>
            <a:off x="142920" y="6500880"/>
            <a:ext cx="1111320" cy="24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7162920" y="4724280"/>
            <a:ext cx="91440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447920"/>
            <a:ext cx="838224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600" spc="-1" strike="noStrike">
                <a:solidFill>
                  <a:srgbClr val="ebd189"/>
                </a:solidFill>
                <a:latin typeface="Verdana"/>
              </a:rPr>
              <a:t>Revue de projet</a:t>
            </a:r>
            <a:endParaRPr b="0" lang="en-US" sz="10600" spc="-1" strike="noStrike">
              <a:solidFill>
                <a:srgbClr val="ebd18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026"/>
          <p:cNvSpPr/>
          <p:nvPr/>
        </p:nvSpPr>
        <p:spPr>
          <a:xfrm>
            <a:off x="7162920" y="47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bd189"/>
                </a:solidFill>
                <a:latin typeface="Verdana"/>
              </a:rPr>
              <a:t>Revue de projet N°</a:t>
            </a: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Verdana"/>
              </a:rPr>
              <a:t>Date de la revue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Verdana"/>
              </a:rPr>
              <a:t>Période concernée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Verdana"/>
              </a:rPr>
              <a:t>Participant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Verdana"/>
              </a:rPr>
              <a:t>Phases du projet à examiner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Verdana"/>
              </a:rPr>
              <a:t>Décisions à prendre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7162920" y="47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bd189"/>
                </a:solidFill>
                <a:latin typeface="Verdana"/>
              </a:rPr>
              <a:t>Etat du prévu / réalisé</a:t>
            </a: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13840" y="1905120"/>
            <a:ext cx="8548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eaeaea"/>
                </a:solidFill>
                <a:latin typeface="Verdana"/>
              </a:rPr>
              <a:t>POUR LA PERIODE EXAMINEE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Verdana"/>
              </a:rPr>
              <a:t>Planning prévisionnel -Planning réalisé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Verdana"/>
              </a:rPr>
              <a:t>Livrables Prévus-Livrables réalisé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Verdana"/>
              </a:rPr>
              <a:t>Coûts prévus-Coûts réalisé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7162920" y="47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bd189"/>
                </a:solidFill>
                <a:latin typeface="Verdana"/>
              </a:rPr>
              <a:t>Problèmes et solutions</a:t>
            </a: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Verdana"/>
              </a:rPr>
              <a:t>Problèmes rencontré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aea"/>
                </a:solidFill>
                <a:latin typeface="Verdana"/>
              </a:rPr>
              <a:t>Pb1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aea"/>
                </a:solidFill>
                <a:latin typeface="Verdana"/>
              </a:rPr>
              <a:t>Pb2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aea"/>
                </a:solidFill>
                <a:latin typeface="Verdana"/>
              </a:rPr>
              <a:t>Pb3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Verdana"/>
              </a:rPr>
              <a:t>Solutions proposé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aea"/>
                </a:solidFill>
                <a:latin typeface="Verdana"/>
              </a:rPr>
              <a:t>Sol1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aea"/>
                </a:solidFill>
                <a:latin typeface="Verdana"/>
              </a:rPr>
              <a:t>Sol2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aea"/>
                </a:solidFill>
                <a:latin typeface="Verdana"/>
              </a:rPr>
              <a:t>Sol3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7T00:48:07Z</dcterms:created>
  <dc:creator>marchat</dc:creator>
  <dc:description/>
  <dc:language>en-US</dc:language>
  <cp:lastModifiedBy>Utilisateur Windows</cp:lastModifiedBy>
  <dcterms:modified xsi:type="dcterms:W3CDTF">2010-03-27T17:06:20Z</dcterms:modified>
  <cp:revision>17</cp:revision>
  <dc:subject/>
  <dc:title>Organigramme projet</dc:title>
</cp:coreProperties>
</file>